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08FB-C6AC-4CB1-B028-74DDB4739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2C78-6519-4423-BE2F-A075392D1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3F09-32C0-4965-87BE-E57C35332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8E0E-9C30-45F3-82A6-629B9419F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008EE-8E05-481D-AEFF-707077A7D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C6C6F-4EDA-468A-A935-6820FFFFE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A253B-851C-4931-AB6F-5C4E01704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09F7D-A181-4091-AF74-E046A41C6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23BCB-7F72-406C-BF48-3405C693A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5D1D7-6420-4777-AEE5-37AC1E94B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28DBE-2585-4294-8FBB-F658A8F2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E5A3-EFC4-4B27-94F6-B918A641F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971D7-D64F-4EDE-958E-94DED4BCD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45AFF-5A84-4F53-BBED-0D1587DDA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244AB-0167-4DD6-9315-C2A7C26FE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80171-8FD2-4233-9816-BD343C4A5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9CDD0-3996-4464-B2C8-47CE32012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8E54-9C9D-4BBA-A291-7C753DB3E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4C97-A4D1-4CBC-8D35-C238F9C64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AF0B-58A7-43F3-A16A-01F61AB9F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AB86-ED49-4BB9-861F-AA8F390FE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898F-71A1-418D-98EF-8F64958F2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1F4A-F94B-4FC7-AA93-892088E2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6E26-3C48-4F9C-9FFD-54464117C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4f4f4f"/>
                </a:gs>
                <a:gs pos="100000">
                  <a:srgbClr val="54545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646464"/>
                </a:gs>
                <a:gs pos="100000">
                  <a:srgbClr val="54545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ce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dc4d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8dc4d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8FB0B-CBB0-4B8B-8E0F-829D24A5B4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474747"/>
                </a:gs>
                <a:gs pos="100000">
                  <a:srgbClr val="54545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646464"/>
                </a:gs>
                <a:gs pos="100000">
                  <a:srgbClr val="54545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ce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dc4d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8dc4d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D4ABF-89A3-4921-9E31-BEF077147A2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r>
              <a:rPr b="1" lang="en-US" sz="5400" spc="-1" strike="noStrike">
                <a:solidFill>
                  <a:srgbClr val="ffff66"/>
                </a:solidFill>
                <a:latin typeface="Arial"/>
              </a:rPr>
              <a:t>Wpływ biernego palenia na zdrowie człowieka</a:t>
            </a:r>
            <a:endParaRPr b="0" lang="en-US" sz="5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457164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kcja Oświaty Zdrowotnej i Promocji Zdrowi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wiatowa Stacja Sanitarno – Epidemiologiczna w Toruniu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6" descr=""/>
          <p:cNvPicPr/>
          <p:nvPr/>
        </p:nvPicPr>
        <p:blipFill>
          <a:blip r:embed="rId1"/>
          <a:stretch/>
        </p:blipFill>
        <p:spPr>
          <a:xfrm>
            <a:off x="6095880" y="3429000"/>
            <a:ext cx="24973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-73296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519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Specjaliści odnotowują wiele przypadków zachorowań na choroby odtytoniowe wśród osób, które nigdy nie paliły tytoniu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Boczny strumień dymu tytoniowego zawiera wiele substancji </a:t>
            </a:r>
            <a:r>
              <a:rPr b="1" lang="pl-PL" sz="2800" spc="-1" strike="noStrike">
                <a:solidFill>
                  <a:srgbClr val="ffff66"/>
                </a:solidFill>
                <a:latin typeface="Arial"/>
                <a:ea typeface="Arial"/>
              </a:rPr>
              <a:t>alergizujących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, powodujących </a:t>
            </a:r>
            <a:r>
              <a:rPr b="1" lang="pl-PL" sz="2800" spc="-1" strike="noStrike">
                <a:solidFill>
                  <a:srgbClr val="ffff66"/>
                </a:solidFill>
                <a:latin typeface="Arial"/>
                <a:ea typeface="Arial"/>
              </a:rPr>
              <a:t>łzawienie</a:t>
            </a:r>
            <a:r>
              <a:rPr b="1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pl-PL" sz="2800" spc="-1" strike="noStrike">
                <a:solidFill>
                  <a:srgbClr val="ffff66"/>
                </a:solidFill>
                <a:latin typeface="Arial"/>
                <a:ea typeface="Arial"/>
              </a:rPr>
              <a:t>oczu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, podrażnienie błony śluzowej </a:t>
            </a:r>
            <a:r>
              <a:rPr b="1" lang="pl-PL" sz="2800" spc="-1" strike="noStrike">
                <a:solidFill>
                  <a:srgbClr val="ffff66"/>
                </a:solidFill>
                <a:latin typeface="Arial"/>
                <a:ea typeface="Arial"/>
              </a:rPr>
              <a:t>nosa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pl-PL" sz="2800" spc="-1" strike="noStrike">
                <a:solidFill>
                  <a:srgbClr val="ffff66"/>
                </a:solidFill>
                <a:latin typeface="Arial"/>
                <a:ea typeface="Arial"/>
              </a:rPr>
              <a:t>kaszel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, nawracające </a:t>
            </a:r>
            <a:r>
              <a:rPr b="1" lang="pl-PL" sz="2800" spc="-1" strike="noStrike">
                <a:solidFill>
                  <a:srgbClr val="ffff66"/>
                </a:solidFill>
                <a:latin typeface="Arial"/>
                <a:ea typeface="Arial"/>
              </a:rPr>
              <a:t>zakażenia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 układu oddechowego, a także </a:t>
            </a:r>
            <a:r>
              <a:rPr b="1" lang="pl-PL" sz="2800" spc="-1" strike="noStrike">
                <a:solidFill>
                  <a:srgbClr val="ffff66"/>
                </a:solidFill>
                <a:latin typeface="Arial"/>
                <a:ea typeface="Arial"/>
              </a:rPr>
              <a:t>uczulenia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 i w konsekwencji </a:t>
            </a:r>
            <a:r>
              <a:rPr b="1" lang="pl-PL" sz="2800" spc="-1" strike="noStrike">
                <a:solidFill>
                  <a:srgbClr val="ffff66"/>
                </a:solidFill>
                <a:latin typeface="Arial"/>
                <a:ea typeface="Arial"/>
              </a:rPr>
              <a:t>astmę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5562720" y="4648320"/>
            <a:ext cx="2209680" cy="14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6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  <a:ea typeface="Arial"/>
              </a:rPr>
              <a:t>Niepokojące fakty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-152280" y="1066320"/>
            <a:ext cx="90676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Arial"/>
              </a:rPr>
              <a:t>Raport WHO - efekt pierwszego globalnego badania wpływu wdychania dymu tytoniowego przez osoby niepalące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danie uwzględniło dane z lat 2004 - 2010, z 192 krajów na całym świecie. Ta ogromna ilość danych pozwoliła ustalić, że na całym świecie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40% dzieci, 33% niepalących mężczyzn i 35% niepalących kobi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wdycha dym z papierosów wypalanych przez inne osoby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Arial"/>
              </a:rPr>
              <a:t>Z powodu szkód zdrowotnych spowodowanych biernym paleniem 379 tys. osób umiera  </a:t>
            </a:r>
            <a:br>
              <a:rPr sz="2800"/>
            </a:b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Arial"/>
              </a:rPr>
              <a:t>na choroby serca, 165 tys. na infekcje dolnych dróg oddechowych, prawie 37 tys. na astmę oraz ponad 21 tys. na raka płuc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7"/>
          <p:cNvSpPr/>
          <p:nvPr/>
        </p:nvSpPr>
        <p:spPr>
          <a:xfrm>
            <a:off x="304920" y="360360"/>
            <a:ext cx="84582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kspozycja na dym tytoniowy w przypadku dzieci, zwłaszcza tych najmłodszych, prowadzi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częstszego występowani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horób układu oddechowego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horób ucha środkowego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rozwoju astmy i zaostrzenia przebiegu tej chorob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jnowsze badania coraz częściej wskazują też,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że dzieci te cechują się gorszym rozwojem psychofizycznym oraz sprawiają więcej kłopotów wychowawczyc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Dzieci narażone na bierne paleni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8dc4d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ją trudności z pisaniem i czytaniem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8dc4d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dności w skupieniu uwagi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8dc4d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dności w przystosowaniu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8dc4d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ierpią na zaburzenia układu nerwowego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8dc4d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ulsywność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8dc4d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dwrażliwość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8dc4d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epokój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5410080" y="4343400"/>
            <a:ext cx="28195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114840"/>
            <a:ext cx="8153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4d4ce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304920"/>
            <a:ext cx="88390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pl-PL" sz="3600" spc="-1" strike="noStrike">
                <a:solidFill>
                  <a:srgbClr val="ffffff"/>
                </a:solidFill>
                <a:latin typeface="Arial"/>
                <a:ea typeface="Arial"/>
              </a:rPr>
              <a:t>Największą dawkę dymu tytoniowego dzieci otrzymują w domu, dlatego tak ważne jest doprowadzenie  </a:t>
            </a:r>
            <a:br>
              <a:rPr sz="3600"/>
            </a:br>
            <a:r>
              <a:rPr b="0" lang="pl-PL" sz="3600" spc="-1" strike="noStrike">
                <a:solidFill>
                  <a:srgbClr val="ffffff"/>
                </a:solidFill>
                <a:latin typeface="Arial"/>
                <a:ea typeface="Arial"/>
              </a:rPr>
              <a:t>do zwiększenia liczby domów  </a:t>
            </a:r>
            <a:br>
              <a:rPr sz="3600"/>
            </a:br>
            <a:r>
              <a:rPr b="0" lang="pl-PL" sz="3600" spc="-1" strike="noStrike">
                <a:solidFill>
                  <a:srgbClr val="ffffff"/>
                </a:solidFill>
                <a:latin typeface="Arial"/>
                <a:ea typeface="Arial"/>
              </a:rPr>
              <a:t>i mieszkań, w których się nie pali, poprzez działania edukacyjn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53352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Arial"/>
              </a:rPr>
              <a:t>Dziękuję za uwagę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71629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228240" y="0"/>
            <a:ext cx="8458200" cy="739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just">
              <a:lnSpc>
                <a:spcPct val="86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86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66"/>
                </a:solidFill>
                <a:latin typeface="Arial"/>
              </a:rPr>
              <a:t>KTO PALI CZĘŚCIEJ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86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6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Najbiedniejsi, najsłabiej wykształceni Polacy palą znacznie częściej (np. bezrobotni mężczyźni ok. 70%) niż osoby lepiej sytuowane z wyższym wykształceniem (wśród mężczyzn ok. 20%, kobiety – 15%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6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Do nałogowego, codziennego palenia tytoniu przyznaje się co trzeci Polak (31%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6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Codziennie pali (w grupie mężczyzn)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86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36% dwudziestolatków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86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49% trzydziestolatków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86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51% czterdziestolatków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86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53 % pięćdziesięciolatków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86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86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Mężczyźni w Polsce palą średnio 18 papierosów dziennie, kobiety  13 papierosów, czyniąc tak przez wiele lat (średnio ok. 23 lata w ciągu życia zarówno kobiety jak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i mężczyźni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6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Zaprzestanie palenia następuje stosunkowo późno – u mężczyzn w 39 r.ż., a u kobiet nawet w 43 r.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6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69% mężczyzn i 53% kobiet wypaliło w swoim życiu przynajmniej 1 papiero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6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44 % mężczyzn i 49% kobiet eksperymentując z tytoniem w okresie dzieciństwa lub młodości w dorosłym życiu kontynuowało palenie tytoniu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Palący dorosły ma problemy…</a:t>
            </a:r>
            <a:endParaRPr b="0" lang="en-US" sz="40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 układem krążenia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 układem oddechowym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 płodnością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 układem nerwowym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6324480" y="1828800"/>
            <a:ext cx="2533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762120" y="1676520"/>
            <a:ext cx="1828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3" descr="palacz"/>
          <p:cNvPicPr/>
          <p:nvPr/>
        </p:nvPicPr>
        <p:blipFill>
          <a:blip r:embed="rId1"/>
          <a:stretch/>
        </p:blipFill>
        <p:spPr>
          <a:xfrm>
            <a:off x="685800" y="150840"/>
            <a:ext cx="7772400" cy="64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ff66"/>
                </a:solidFill>
                <a:latin typeface="Arial"/>
              </a:rPr>
              <a:t>Diagnoza problemu 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palenia tytoniu </a:t>
            </a:r>
            <a:br>
              <a:rPr sz="3600"/>
            </a:b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wśród dzieci i młodzieży</a:t>
            </a:r>
            <a:endParaRPr b="0" lang="en-US" sz="36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 Polsce codziennie zaczyna palić pół tysiąca dzieci, a rocznie po pierwszego papierosa sięga  około 180 tys. nieletnich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ukończenia jedenastu la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⅓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zieci ma już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a sobą eksperymentowanie z paleniem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śród piętnastolatków ¼ pali regularnie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d lat osiemdziesiątych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ularnie pali więcej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ziewcząt niż chłopców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5"/>
          <a:stretch/>
        </p:blipFill>
        <p:spPr>
          <a:xfrm>
            <a:off x="5334120" y="4495680"/>
            <a:ext cx="320040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Najważniejsze problemy związane </a:t>
            </a:r>
            <a:br>
              <a:rPr sz="3200"/>
            </a:b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z paleniem tytoniu w środowisku </a:t>
            </a:r>
            <a:br>
              <a:rPr sz="3200"/>
            </a:b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dzieci i młodzieży</a:t>
            </a:r>
            <a:endParaRPr b="0" lang="en-US" sz="32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niżający się wiek dzieci eksperymentujących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 papierosami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trzymująca się liczba stałych palących w młodym wieku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ie zmniejszająca się liczba palących dziewczą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młodych kobiet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jawisko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biernego paleni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śród dziec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5"/>
          <a:stretch/>
        </p:blipFill>
        <p:spPr>
          <a:xfrm>
            <a:off x="6553080" y="4419720"/>
            <a:ext cx="1676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Dym tytoniowy szkodzi niepalącym</a:t>
            </a:r>
            <a:br>
              <a:rPr sz="3600"/>
            </a:br>
            <a:endParaRPr b="0" lang="en-US" sz="40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ym papierosowy zawiera ponad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4 tys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bstancji chemicznych, w tym aż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40 związków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rakotwórczyc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Wdychanie dymu tytoniowego, czyli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bierne paleni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jest równie niebezpieczne jak samo palenie. Boczny strumień dymu tytoniowego zawiera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35 raz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ięcej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dwutlenku węgl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2-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ięcej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nikotyny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iż dym wdychan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zez aktywnych palaczy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4800600" y="3733920"/>
            <a:ext cx="38098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Dym tytoniowy szkodzi niepalącym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ym boczny wydostaje się w ciągu całego czasu palenia papierosa i nie jest filtrowany ani przez filtr papierosowy, ani przez „żywy filtr”, jakim są płuca, dym główny natomiast jest wdychany jedynie przez 20-30 sekun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Z</cp:lastModifiedBy>
  <dcterms:modified xsi:type="dcterms:W3CDTF">2013-10-10T07:44:01Z</dcterms:modified>
  <cp:revision>16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